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999205"/>
        <c:axId val="91654316"/>
      </c:barChart>
      <c:catAx>
        <c:axId val="10999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54316"/>
        <c:crosses val="autoZero"/>
        <c:auto val="1"/>
        <c:lblAlgn val="ctr"/>
        <c:lblOffset val="100"/>
        <c:noMultiLvlLbl val="0"/>
      </c:catAx>
      <c:valAx>
        <c:axId val="916543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999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5C17-108B-4665-8747-C4B92D3AB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1BA4-A801-42B4-88EE-5C63A511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4BA8-D261-4199-BB76-251FB6A3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6290-38ED-479B-9A8D-7B2FA441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8179-B7E7-46BC-8397-500B3726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A3ED-8FA2-4E6B-BBA7-8EC97F1F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6C20-6B11-4836-A74B-2421C8FF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6DA1-55B0-4CAC-99C2-43C222E6A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183-4B3F-45B3-9699-B1FA217B6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0FDF-E535-4474-A25C-76CC54F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E96-686D-41F4-B469-1759A607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2A0F-C694-49A9-AB2D-AAF314BB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8D50D-BDC9-4FF8-91EE-2C9D47529E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