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02967"/>
        <c:axId val="15921856"/>
      </c:barChart>
      <c:catAx>
        <c:axId val="52802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21856"/>
        <c:crosses val="autoZero"/>
        <c:auto val="1"/>
        <c:lblAlgn val="ctr"/>
        <c:lblOffset val="100"/>
        <c:noMultiLvlLbl val="0"/>
      </c:catAx>
      <c:valAx>
        <c:axId val="15921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02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187-E71A-4F49-A136-17A994E1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D2B-44C2-41F6-9C81-056F9945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E52-B6C1-4D0E-906F-3BF6A2F8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301-1C8F-44D0-8343-9D1C6929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DC4-27BC-48AF-A392-903D60AB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232-CC3B-4E15-8DEF-F36A5178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849-BA8A-49AA-BE06-B0147D7B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9E0-7E5E-4493-A431-EB0A4A89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E2D-5ECE-4551-A851-CD5BC669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7AD-BD3F-48BE-8711-9770EACC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38D-D59D-4E1E-8085-B7C7E11C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854-2510-42B9-9C18-6DFB96C3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0F585-9D1B-4FF6-9246-9B70CA65F3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