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336936"/>
        <c:axId val="78515912"/>
      </c:barChart>
      <c:catAx>
        <c:axId val="473369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15912"/>
        <c:crosses val="autoZero"/>
        <c:auto val="1"/>
        <c:lblAlgn val="ctr"/>
        <c:lblOffset val="100"/>
        <c:noMultiLvlLbl val="0"/>
      </c:catAx>
      <c:valAx>
        <c:axId val="785159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369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9218-EF01-416E-A855-CE2B68FB1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5BBB-08F2-41B5-93BC-6024F57C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1A1F-F506-4D02-94F4-377783E0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5DF5-F2EC-4EFB-AF12-F772BFC4F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C048-0648-4A60-A50A-2FBDD711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5F30-7CE6-405E-95F0-6BB25AA0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FBBA-C9C0-4B95-895D-B69FFE19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89AB-59AD-4353-A475-4D797986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C7A1-AD56-49D0-A3B3-6751CCAF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C999-4817-4CB8-89C9-D5EC8FE7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14B9-06C1-47BB-861A-6C6A4618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35CF-6982-43B8-91A1-848CB89A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876A7-9ECD-4AF5-B848-6953B08985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