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91929"/>
        <c:axId val="32482412"/>
      </c:barChart>
      <c:catAx>
        <c:axId val="80891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2412"/>
        <c:crosses val="autoZero"/>
        <c:auto val="1"/>
        <c:lblAlgn val="ctr"/>
        <c:lblOffset val="100"/>
        <c:noMultiLvlLbl val="0"/>
      </c:catAx>
      <c:valAx>
        <c:axId val="3248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1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1D1-BF73-494B-A1E4-7FA267EF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7F2-3DE9-4B45-AE13-28B6F65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4DE-921A-46A5-A77E-9D9EF0FF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C96-E527-4591-80C9-01C91F9B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5C0-7F50-44E2-903A-B15564FB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D37-6836-40A8-B2BE-5040F1A5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8AA-102A-4928-BE35-464F608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0CD-60B4-4D9C-B2B4-B6137C2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147-C982-4A95-8726-89185B9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7AD-5AC2-4B66-8C0B-442916A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AA6-CBC5-46F0-83EE-9536464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25F-3ACB-44AD-A37A-71C6DE4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95924-277E-4086-91D4-3ACB2EC8FB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