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26168"/>
        <c:axId val="41636610"/>
      </c:barChart>
      <c:catAx>
        <c:axId val="13626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36610"/>
        <c:crosses val="autoZero"/>
        <c:auto val="1"/>
        <c:lblAlgn val="ctr"/>
        <c:lblOffset val="100"/>
        <c:noMultiLvlLbl val="0"/>
      </c:catAx>
      <c:valAx>
        <c:axId val="41636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26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A4A-CA75-4FCF-A299-176D1E83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C7A-49C3-45FB-96C0-9311D26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FDD-C3B2-44B7-8BB7-A7EB7293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CAB-6C43-4CC7-BE4D-DD8702C1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908-7977-4CEB-8D88-B13E6978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158-7867-43F9-8F46-F5FCDDEE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DFE-AF81-418E-BDD3-EE8EB7B0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E76-12C5-43E1-B9AD-9F52E418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2CE-A3FA-40D6-9B4B-2A3C7C19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B0A-A677-4083-B472-85E5067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729-3F4E-496E-86E8-C848312E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631-4461-46F4-A637-85AD704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B3E83-1C4C-4BB8-BDDA-69E16B8668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