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60937"/>
        <c:axId val="45558965"/>
      </c:barChart>
      <c:catAx>
        <c:axId val="46460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58965"/>
        <c:crosses val="autoZero"/>
        <c:auto val="1"/>
        <c:lblAlgn val="ctr"/>
        <c:lblOffset val="100"/>
        <c:noMultiLvlLbl val="0"/>
      </c:catAx>
      <c:valAx>
        <c:axId val="45558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60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393-2014-4724-84A7-761FCF28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592-CB7F-4B98-A0A1-6FC746F9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3E7-C4F6-41CB-A20C-C92521DB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0CE-537A-4048-B437-A233548D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A91-EEAB-4286-961B-BA991E3F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5DA-3776-4D8B-B02E-3FF0B4B2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183-04E9-4C49-87D7-7560FE49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7E7-796D-474C-A697-5298151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A53-6F17-4CBB-AA63-0C225AAF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A59-E0D1-40F2-8E1D-52FC475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D80-C310-4C1B-AEBF-7DEBF92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EE5-E797-4652-88D0-C21FCBE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1F779-CD04-41AE-A0C3-284DD4493D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