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50505"/>
        <c:axId val="71820430"/>
      </c:barChart>
      <c:catAx>
        <c:axId val="68550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20430"/>
        <c:crosses val="autoZero"/>
        <c:auto val="1"/>
        <c:lblAlgn val="ctr"/>
        <c:lblOffset val="100"/>
        <c:noMultiLvlLbl val="0"/>
      </c:catAx>
      <c:valAx>
        <c:axId val="7182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50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EE2-012B-4997-9E1F-28435572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ACD-70FA-4FBA-B7C3-8C89972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5EB9-E05B-422E-84C7-939088DA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34B-E838-4F2B-961A-0E394716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B12-4D90-465E-AAD8-6082C42F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F67-D49A-4F04-B42A-C77D84D2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2F2-BF9C-4786-A4BD-87E1BA7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487-AD2A-4E8F-932B-96CC785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1BC-A9DB-433B-866C-77572DA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512-41AF-47B7-8F35-F9CDDD21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712-748F-4248-9A10-7827627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F57-76CE-485C-B782-2A94B6B0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AE261-8EA1-415C-935B-1CECFCCB0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