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93924"/>
        <c:axId val="76242678"/>
      </c:barChart>
      <c:catAx>
        <c:axId val="646939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42678"/>
        <c:crosses val="autoZero"/>
        <c:auto val="1"/>
        <c:lblAlgn val="ctr"/>
        <c:lblOffset val="100"/>
        <c:noMultiLvlLbl val="0"/>
      </c:catAx>
      <c:valAx>
        <c:axId val="76242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939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583-B21A-4F1E-B059-39C75F18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4695-8C83-4A3F-8C58-18083CE9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7C3-0B68-4815-89FC-2E54456A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A14-ACF4-4A28-A0AF-1D64CC9F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34D-6A87-4C47-AAA9-502DD9D6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D80-41A1-4387-92CC-CBD11D13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39DF-A927-4E80-A31F-10D1327C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3F9-EBD6-4156-B7A5-93B5AB52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50F-B287-4DFE-BD26-42FD2E0A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DD1-BEF5-4970-BE3E-67460B51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F3E-C17E-44DD-BAB9-A3C7C2CA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1D81-DA05-4281-8B34-4FADA640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FB563-8963-405F-AB6D-F28F5DB763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