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99008"/>
        <c:axId val="99703863"/>
      </c:barChart>
      <c:catAx>
        <c:axId val="79599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03863"/>
        <c:crosses val="autoZero"/>
        <c:auto val="1"/>
        <c:lblAlgn val="ctr"/>
        <c:lblOffset val="100"/>
        <c:noMultiLvlLbl val="0"/>
      </c:catAx>
      <c:valAx>
        <c:axId val="997038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99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25F-F98F-41CA-9A4E-B2BC0ED1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A0D-87A6-4908-90F2-311047BC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37B-B54A-4DA1-B751-BF383A64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DC96-E105-4290-B80E-87604D53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9FB-169A-4B5A-B989-65AC95DF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0C4-7B88-49F1-B05B-27ACE8C9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0EC-FB70-4EAF-AA3D-1485CC54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B92-2B17-4706-93FE-3A9531C5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9DAB-1E46-4A28-A3FD-8FAFFAA0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04D-C8DD-4844-9F0E-8C5E91E9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12C-C1DB-4274-A6E8-51C32346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3DCF-BED2-43FF-A41F-A903ED45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58F62-3BC8-43FB-8848-F3C65376D5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