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78495"/>
        <c:axId val="88456616"/>
      </c:barChart>
      <c:catAx>
        <c:axId val="90778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56616"/>
        <c:crosses val="autoZero"/>
        <c:auto val="1"/>
        <c:lblAlgn val="ctr"/>
        <c:lblOffset val="100"/>
        <c:noMultiLvlLbl val="0"/>
      </c:catAx>
      <c:valAx>
        <c:axId val="88456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78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BBF-645B-4698-92E7-79A66DD2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6D0-6484-4847-823E-FA2F06B8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EDD-FEB9-45BA-9100-6FCA07EB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25F-C05A-4138-BD49-248E3FC1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690-E5B4-4098-AFD0-671CC362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512-0BED-4CF4-9B16-D4D83E34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393-3284-486F-8BFE-EE86B400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96A-D856-4916-93A3-C5A411E3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698-B363-48CC-8C9A-C95F69EC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945-3D6E-4A69-9C94-0DEA2AAF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9A0-CC81-41EE-A894-41FBFC6C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659-1C38-4CA8-BFCF-EBF401D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5DDF3-64D6-4949-A344-0FB56CBDD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