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2064"/>
        <c:axId val="19645603"/>
      </c:barChart>
      <c:catAx>
        <c:axId val="5902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45603"/>
        <c:crosses val="autoZero"/>
        <c:auto val="1"/>
        <c:lblAlgn val="ctr"/>
        <c:lblOffset val="100"/>
        <c:noMultiLvlLbl val="0"/>
      </c:catAx>
      <c:valAx>
        <c:axId val="19645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F2E-AEDA-4899-92D3-9050E9D0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00-A440-4B17-9448-3D07B35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009-0E2E-4ABC-9767-1F7041EB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AFD-9E33-4E17-BB6D-9FF67485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D8D-CC23-49C7-8569-81CB94E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545-BF63-4AA5-8AB0-EED9A1F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BDD-53B4-4751-8823-5DF33CD6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DA5-A143-4625-A2E5-0321618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799-4943-4D46-8339-3CFA86D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EBF-34FA-4E7B-BFA5-C9F58BA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FAC-5391-401A-ADE6-1AA331A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1B1-9392-46F3-827A-2FB1130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8E7A5-E28A-446D-8B02-B85CBAF8A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