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635558"/>
        <c:axId val="26025678"/>
      </c:barChart>
      <c:catAx>
        <c:axId val="136355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25678"/>
        <c:crosses val="autoZero"/>
        <c:auto val="1"/>
        <c:lblAlgn val="ctr"/>
        <c:lblOffset val="100"/>
        <c:noMultiLvlLbl val="0"/>
      </c:catAx>
      <c:valAx>
        <c:axId val="260256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355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B8C6-AACE-4D6D-8E26-B93F566E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C5A1-EE39-4E65-8195-83569905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9344-6BED-4287-B52C-ADECF1EC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4B18-748D-45CE-8A5B-34AF89B7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E6AE-FEB1-412C-8321-5038BB2F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46C1-0495-41FC-82CA-086E7FD0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3615-E119-4F73-A5BF-B2DA09DE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9412-2A94-44CC-9191-1888598E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9119-8208-4510-BF20-84CCA5FD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1F84-6429-4309-B3D7-3D338A51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4635-D1AB-4189-B161-B1A11B94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8849-EA61-4929-A300-56117151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F94F2-2636-4159-B108-A395D92F82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