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632636"/>
        <c:axId val="79245928"/>
      </c:barChart>
      <c:catAx>
        <c:axId val="696326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45928"/>
        <c:crosses val="autoZero"/>
        <c:auto val="1"/>
        <c:lblAlgn val="ctr"/>
        <c:lblOffset val="100"/>
        <c:noMultiLvlLbl val="0"/>
      </c:catAx>
      <c:valAx>
        <c:axId val="792459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326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B2D7-E6A5-473B-87E0-D4B7E428A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1B59-257F-442E-93B1-6945101B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7689-8DB3-4230-9EB2-1A0AE82EB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F98B-6506-4EAF-8868-6C918243C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0DEA-97B3-4847-9DBA-6A2438FF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A58C-C813-4ABC-AEA0-DDC17108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2DFC-CF04-4052-8DAB-31F5E037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C2F9-6D9F-4264-9F98-02121A70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DE87-B67C-4EEC-9BF2-4F1E4360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23CE-B7D2-4CB7-A8B6-472DD1E8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81B5-0180-4570-8785-760494AB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C064-2DE7-4EAC-B1DD-DCF89BFF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64DAC-EF2F-43D5-9E06-EDDFAE322B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