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419903"/>
        <c:axId val="42475142"/>
      </c:barChart>
      <c:catAx>
        <c:axId val="35419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75142"/>
        <c:crosses val="autoZero"/>
        <c:auto val="1"/>
        <c:lblAlgn val="ctr"/>
        <c:lblOffset val="100"/>
        <c:noMultiLvlLbl val="0"/>
      </c:catAx>
      <c:valAx>
        <c:axId val="42475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19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C790-2E28-4D41-B51F-1F21A54D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6EEF-6D7C-4D11-830A-FB80B1F3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79E8-C1A1-4AE2-AB9B-31A45D67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5B8-AB2E-4B72-9D05-59B5A5D2D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0B3-8FDB-4DFB-8D18-AA23064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C67-64A3-4E3D-9CA0-D85CDE9A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CD7-3690-4B7A-90D0-E5352D37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7AF-1C43-435E-A076-B72803AC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7EC-7AA1-4D7B-8D16-F6AB043D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D4C9-3523-40B8-BDBA-0FCA1F5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505-E94F-409F-B815-1135DB2A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C98-03E5-4534-AF99-268A043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DEE87-50D1-439B-A3CB-75AB102739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