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49479"/>
        <c:axId val="60436679"/>
      </c:barChart>
      <c:catAx>
        <c:axId val="94849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36679"/>
        <c:crosses val="autoZero"/>
        <c:auto val="1"/>
        <c:lblAlgn val="ctr"/>
        <c:lblOffset val="100"/>
        <c:noMultiLvlLbl val="0"/>
      </c:catAx>
      <c:valAx>
        <c:axId val="60436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49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BF6B-FB77-4C8C-B9D5-C00F75E4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746B-FD26-459A-B9F4-5849AA4E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E9B8-E0B1-47B0-8082-28AC5A7B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CD7D-E023-4C4C-A7A1-5408A678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7CB-BD6C-4DA2-B6A7-4CCF246B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4D8A-7867-4CDE-AD93-8CBB1408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D43-2BAE-457E-AA38-E196077E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CA9E-8F7A-4D46-91AD-B7E99606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B13F-4C69-4975-BC07-D75DA080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473D-B51D-4B78-914D-475F707A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1BFE-2CC6-4E4A-9D18-8653F7BC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CAA-CE83-46EC-B713-759CFCA9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5D296-54DA-4886-8824-543FA3200E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