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959251"/>
        <c:axId val="63491580"/>
      </c:barChart>
      <c:catAx>
        <c:axId val="579592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91580"/>
        <c:crosses val="autoZero"/>
        <c:auto val="1"/>
        <c:lblAlgn val="ctr"/>
        <c:lblOffset val="100"/>
        <c:noMultiLvlLbl val="0"/>
      </c:catAx>
      <c:valAx>
        <c:axId val="634915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592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D032-D102-4591-AE2F-1B72E12C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E72B-5A1E-4BB5-8A37-4720205E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79CA-8047-4A32-B248-48DFA5081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267E-4201-403D-9FE5-B1981306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0C17-A92F-4F64-B1D0-A2016467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3943-D023-486D-9FAF-E250C405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8251-DA7A-4356-93D6-5A59F67A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9C5E-BF75-4794-B283-643473AA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C4B-DE6E-4AE9-AD92-3E03CEE0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6320-B3C2-482B-A326-D8965378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BE3C-0CB5-4D04-9381-9E6235BB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5426-E5A6-4B3A-A12E-2050F8CD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4B2AE-9774-43E4-8F87-AA53B50C03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