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3775"/>
        <c:axId val="39552936"/>
      </c:barChart>
      <c:catAx>
        <c:axId val="54723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2936"/>
        <c:crosses val="autoZero"/>
        <c:auto val="1"/>
        <c:lblAlgn val="ctr"/>
        <c:lblOffset val="100"/>
        <c:noMultiLvlLbl val="0"/>
      </c:catAx>
      <c:valAx>
        <c:axId val="39552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3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DE8-AD25-4F07-ADF5-5BE10DBF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349-C5C5-4311-9DBD-8C57C98E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C03-C71F-49F9-8E29-3C9497DB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781-1B0C-4921-9601-332B0989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A98-A2A2-4591-9FF1-8C10B60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12B-2C43-4961-B28D-73C67BAF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251-7F06-4239-B7F5-08397FB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D09-6211-466C-9B8F-8F686A9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198-F622-4385-9023-814AA93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A0D-0173-4AB9-A65D-68E94B8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FF6-CF5D-43ED-A406-8F5A80D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3FF-6547-4B5B-91BA-CED3813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1E007-0D0E-4AD5-BE8E-A08C8EA2D4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