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7993"/>
        <c:axId val="81985693"/>
      </c:barChart>
      <c:catAx>
        <c:axId val="5377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85693"/>
        <c:crosses val="autoZero"/>
        <c:auto val="1"/>
        <c:lblAlgn val="ctr"/>
        <c:lblOffset val="100"/>
        <c:noMultiLvlLbl val="0"/>
      </c:catAx>
      <c:valAx>
        <c:axId val="8198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7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CA6-D68C-4020-B442-3978D646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251-9B4B-41FC-9B5F-538D328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791-6036-4762-ABFB-30C71A56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21C-CF96-4B09-9F51-D6C084E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3D0-2B2E-4F0B-8B07-4265054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24F-D7FB-4679-91E0-25D2DF5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9C6-C21E-42DE-A0F9-8424A1D8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F7E-4788-46CC-ADE3-F5B2850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3C9-F49C-42B5-BD03-28C63B3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B19-5B77-4BB6-AEBD-D737BF2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85E-2470-4573-83E0-DD40655C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593-72AD-48ED-A821-6D56A36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90211-5863-47D1-893E-AA1BFA9F14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