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46876"/>
        <c:axId val="2306723"/>
      </c:barChart>
      <c:catAx>
        <c:axId val="29046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6723"/>
        <c:crosses val="autoZero"/>
        <c:auto val="1"/>
        <c:lblAlgn val="ctr"/>
        <c:lblOffset val="100"/>
        <c:noMultiLvlLbl val="0"/>
      </c:catAx>
      <c:valAx>
        <c:axId val="2306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46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D33-785A-4EFA-B34D-D43A6942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950-70C7-404F-9CF6-A799A1E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62E-6ED7-4F46-9041-84EE536A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35E-5AA0-4B7B-8DF8-9DE130BA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472-7EE4-4F27-B0EF-37D6D428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8D1-E1B8-4BA0-BA9C-1D8B9AB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4DA-AA95-4449-87B5-736B0093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09B-C9AE-4B5C-ABF1-7DE213EF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731-4778-4B52-B10E-5D39229F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E43-8A00-45C3-B943-2055EE7D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E87-1E8F-41E5-8EBD-FA9F8D0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24E-B357-4312-8AFB-8902657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368CD-1521-4066-9380-641ACB214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