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44791"/>
        <c:axId val="64849492"/>
      </c:barChart>
      <c:catAx>
        <c:axId val="49447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49492"/>
        <c:crosses val="autoZero"/>
        <c:auto val="1"/>
        <c:lblAlgn val="ctr"/>
        <c:lblOffset val="100"/>
        <c:noMultiLvlLbl val="0"/>
      </c:catAx>
      <c:valAx>
        <c:axId val="648494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47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D2C8-B3E8-4560-8C25-56BEF6905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EB7B-A50D-4C5B-B25F-89B64ED6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C3E4-F841-4BEE-A14A-9EAB7B5A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F992-8D93-48CD-812B-17CA097AB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53BD-33CA-4704-80C0-DF86FEB9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A405-8C89-4A6C-96D7-553E0312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74A0-BD76-424A-A05A-294F8016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A368-6BEF-4904-B3E3-030DEB2B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2EBF-A2E7-41DA-AD4C-5B1E42E2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D56E-0358-4805-914D-C0495C2F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016E-7D76-418C-ADD5-39221776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6338-65FA-47AB-B547-DEAF1902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D459E-83F3-4E9E-8B1B-F20B887CFB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