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19421"/>
        <c:axId val="71581389"/>
      </c:barChart>
      <c:catAx>
        <c:axId val="75119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81389"/>
        <c:crosses val="autoZero"/>
        <c:auto val="1"/>
        <c:lblAlgn val="ctr"/>
        <c:lblOffset val="100"/>
        <c:noMultiLvlLbl val="0"/>
      </c:catAx>
      <c:valAx>
        <c:axId val="71581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19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468-DD8C-44FC-8408-EEBC32BC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591-4DC0-4948-A03C-B3DEBB35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E4D-DF47-476A-8FCD-D05882DE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557-4AB5-4586-9258-ECECD3F1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8C3-9BAE-447E-BFD5-A0E84BD4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772-1D2E-4F17-96BA-A5DD4E08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6B2-7474-4A38-AE8B-8812AEF9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AB9-CA4C-4D44-805E-CDFB0F6C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173-F0C0-4A24-98C3-63B58C0C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43F-6574-47C9-B318-896633D8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B8E-C54A-4035-8CF2-B9336EC8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87A-9E37-4A68-9B82-D43DDFBB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259A6-417F-4BB9-88FE-EEC238F676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