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75495"/>
        <c:axId val="9472020"/>
      </c:barChart>
      <c:catAx>
        <c:axId val="87775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020"/>
        <c:crosses val="autoZero"/>
        <c:auto val="1"/>
        <c:lblAlgn val="ctr"/>
        <c:lblOffset val="100"/>
        <c:noMultiLvlLbl val="0"/>
      </c:catAx>
      <c:valAx>
        <c:axId val="9472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75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EEF-D9D6-484E-BCC8-7950F9D3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077-3EDF-431A-97B2-2F930297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300-6099-4F01-8BFE-F1C4B8F8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307-9A37-4D53-A224-357989C9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DD5-600A-470D-A9BC-D4017F98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199-2BF4-4947-AEC4-EF691617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29D-BB2A-44B2-B5CA-3244EE79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3CD-A1CC-487D-BF6D-B17DB136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8C3A-2107-408B-90EB-387FA3D0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E5D-5A89-4964-B9E5-2BA8EF57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4D6-45A5-43A5-8EAB-A759879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8E3-25B2-4FBE-B806-F175FC8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EADB5-4B79-4036-8D53-C71A386DE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