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29031"/>
        <c:axId val="89224159"/>
      </c:barChart>
      <c:catAx>
        <c:axId val="72929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4159"/>
        <c:crosses val="autoZero"/>
        <c:auto val="1"/>
        <c:lblAlgn val="ctr"/>
        <c:lblOffset val="100"/>
        <c:noMultiLvlLbl val="0"/>
      </c:catAx>
      <c:valAx>
        <c:axId val="89224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9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79F-E6C0-445B-A005-9C3617A6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0BE-BE33-4D84-B1A3-0B36C3E3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B53-5321-47C0-B755-5FB830FE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07B-A8DA-4198-8DF4-A4134C79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E25-9259-452E-A0D7-8962A3B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102-7F4E-4E99-8496-B86258F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8A7-4DE4-4C2E-AF09-46F256AD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175-6B86-4636-A4B1-0D9327E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115-9000-4609-9C95-C8E71CE3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DB5-7FCB-4B89-A969-F399FAA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27F-E931-46B7-9B6F-FCF64CE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2FF-D190-4151-93CC-9067866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162E5-C29F-41B5-8D62-B6B48B26E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