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32460"/>
        <c:axId val="77942673"/>
      </c:barChart>
      <c:catAx>
        <c:axId val="16932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42673"/>
        <c:crosses val="autoZero"/>
        <c:auto val="1"/>
        <c:lblAlgn val="ctr"/>
        <c:lblOffset val="100"/>
        <c:noMultiLvlLbl val="0"/>
      </c:catAx>
      <c:valAx>
        <c:axId val="77942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32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E53-60D5-4EBE-B0D5-2D5AF094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455-1653-4017-977E-D08ACA0C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D3B-269E-4882-8516-D399BDE9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051-2C01-434E-856A-DBBBA7F8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56D-B68A-4C6F-B853-97EB0D1C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A9A-6A0C-4480-AB7C-950203EE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015-B9DC-42F6-9C1E-2FEFE558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B9D-FBEC-48AF-BAC4-BAC848CB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EAD-BBD5-430F-B9BD-827D5657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781-E8C0-40DF-8BAF-9165CA31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E49-01D8-41D0-B173-D1301302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E11-6BD9-41BF-8CCB-E90C154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21A9F-2009-41C7-9987-2A12F95AD5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