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07645"/>
        <c:axId val="79874506"/>
      </c:barChart>
      <c:catAx>
        <c:axId val="820076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74506"/>
        <c:crosses val="autoZero"/>
        <c:auto val="1"/>
        <c:lblAlgn val="ctr"/>
        <c:lblOffset val="100"/>
        <c:noMultiLvlLbl val="0"/>
      </c:catAx>
      <c:valAx>
        <c:axId val="798745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076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C10-FFDB-4227-8299-DB592E3A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3A41-FCCD-4F0C-975B-F9B8D5EB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F31-1735-46D5-BE33-3D9D58FA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2D9-46DA-43AF-A937-6E3A122B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E744-AAF3-4960-8991-5C158541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1AD6-EE81-4419-A5B8-9779269E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A260-22A5-43E4-A090-F97A8158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F9B-C5CE-4FBD-8FA4-1BEA4A9C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67F-6E75-46FF-B4FE-8949EBED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D62B-5770-4773-A776-1AA0AD59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764-7C6C-4E88-9DC1-78DE7263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831A-81A2-4F39-A6E4-F81E64BD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BE146-4760-4976-AAAE-23A707D5DC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