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95939"/>
        <c:axId val="46754361"/>
      </c:barChart>
      <c:catAx>
        <c:axId val="57695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54361"/>
        <c:crosses val="autoZero"/>
        <c:auto val="1"/>
        <c:lblAlgn val="ctr"/>
        <c:lblOffset val="100"/>
        <c:noMultiLvlLbl val="0"/>
      </c:catAx>
      <c:valAx>
        <c:axId val="46754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95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B38-E8FE-46C5-99D7-B9268032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3E3-6549-4746-AD19-3C6ED9F3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6EA-2722-46EA-AE55-7C447BCF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136-17FC-4825-A66C-7D76F56F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31E-1C22-41D8-A378-834485BA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128-DCE6-4414-B3BF-5CF43AAB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BDA-8B55-4A72-AD13-02BD778B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760-A92A-4DE5-98B4-65257D35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65B-62AC-4F43-AAFA-16987459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B70-1271-4913-B7D9-7AB896E7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EE2-0B0A-4732-AE5C-A1CF8755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A28-1CA9-41F3-9412-B96426A0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82446-9B76-48A1-A23B-908E1D42DF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