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60827"/>
        <c:axId val="81252212"/>
      </c:barChart>
      <c:catAx>
        <c:axId val="20760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52212"/>
        <c:crosses val="autoZero"/>
        <c:auto val="1"/>
        <c:lblAlgn val="ctr"/>
        <c:lblOffset val="100"/>
        <c:noMultiLvlLbl val="0"/>
      </c:catAx>
      <c:valAx>
        <c:axId val="812522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60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5505-2577-472E-B656-B2490BE8A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9508-0744-4D51-BF06-DCC15675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C320-68A5-4848-8419-9436B0FF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B40-94C0-4F99-AA52-938726EB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3F4-FFCA-46E5-AC92-3391916B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A045-1733-4310-BCAC-E2914378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6F2B-9155-446A-986C-CF1A5A9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C0A-CD25-4D2C-9733-2B698947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B48-19E5-451D-A182-F4006551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EBE-5197-4916-97EE-A45EBEFC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C11-9093-4B5D-ACD9-5676D4E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23E7-464A-4C3A-9928-121C551F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467D03-2435-4BF5-B851-449844C0B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