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635498"/>
        <c:axId val="5173088"/>
      </c:barChart>
      <c:catAx>
        <c:axId val="716354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3088"/>
        <c:crosses val="autoZero"/>
        <c:auto val="1"/>
        <c:lblAlgn val="ctr"/>
        <c:lblOffset val="100"/>
        <c:noMultiLvlLbl val="0"/>
      </c:catAx>
      <c:valAx>
        <c:axId val="51730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354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D858-DB25-49DD-BC2E-BE1AD4CA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2EED-4113-47CD-9A1C-2ED68B13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42F-0896-49FB-A5AF-F412471F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BACF-A6B9-45F0-9B55-6F2D6162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56E6-C92C-42CE-A78B-6A7DD3CA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8C04-CA6B-4EB8-969A-FCB1BF6C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45A1-11B6-41B0-BE2E-4E15BA00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2DEF-9852-4A05-BABB-268236D1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7A2E-764E-42DB-BB7F-A8C51A77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4E9D-F2D6-493A-839C-5225CB8F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8C29-2E8F-433B-99A7-DFE33005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88AC-56F1-45DF-802C-C1D90F03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EF642-F3D5-4844-9C0F-6D38B92137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