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3527"/>
        <c:axId val="18611893"/>
      </c:barChart>
      <c:catAx>
        <c:axId val="7513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11893"/>
        <c:crosses val="autoZero"/>
        <c:auto val="1"/>
        <c:lblAlgn val="ctr"/>
        <c:lblOffset val="100"/>
        <c:noMultiLvlLbl val="0"/>
      </c:catAx>
      <c:valAx>
        <c:axId val="18611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3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DEC-1F29-45B5-AE10-014DF59B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AAD-0DE2-4BD2-8EAA-89A162D4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8F6-B0C0-425B-8796-1B247A12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8AB-6B1C-4063-BB0B-A876AC98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F84-FA0C-4F25-BB31-42A127BB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27D-AAF3-4FF6-BF17-5D94A34D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BB8-0EA0-4CAC-8690-95196BF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A14-0853-4E3B-85A6-04168B70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E39-F1B5-4DAD-AB4A-1385A946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0F5-E077-4C47-A279-4FD6169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6FD-7270-4508-91F5-30CEC867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BF6-D7A4-4295-9197-1A32F6EB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F5FEB-C097-4D37-8C20-1DD086FF7F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