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09788"/>
        <c:axId val="57210894"/>
      </c:barChart>
      <c:catAx>
        <c:axId val="10309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0894"/>
        <c:crosses val="autoZero"/>
        <c:auto val="1"/>
        <c:lblAlgn val="ctr"/>
        <c:lblOffset val="100"/>
        <c:noMultiLvlLbl val="0"/>
      </c:catAx>
      <c:valAx>
        <c:axId val="57210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09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8BC-EF19-41A5-A24F-EDD8D39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5A9-8956-4716-8FFA-2E7A6B12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74B-CBCA-4867-8E72-7C6F15DB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22C-A8CA-497F-86FB-84ED0656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60E-163F-42E0-A144-CC56845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C46-2CCC-4299-AE6C-CB23038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B71-EAAE-4A2E-ACF5-09E85A35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7D5-A5A5-4720-84BC-AFA1273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057-239B-4CEC-B9AC-7828C7D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FE6-F5AE-47A0-9CB7-3584D74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3AC-087D-411F-B5F1-7D5790F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B9C-B6D8-4D49-9E8A-AB6987D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BDB0D-0409-4FD6-B2B2-E01B17A4A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