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372827"/>
        <c:axId val="62236297"/>
      </c:barChart>
      <c:catAx>
        <c:axId val="673728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36297"/>
        <c:crosses val="autoZero"/>
        <c:auto val="1"/>
        <c:lblAlgn val="ctr"/>
        <c:lblOffset val="100"/>
        <c:noMultiLvlLbl val="0"/>
      </c:catAx>
      <c:valAx>
        <c:axId val="622362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728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D27A-EB15-4DC9-964D-3D6E6759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332F-30FE-4479-8B09-094071FC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9746-5D71-4D3F-854B-B235A5DF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9A89-E953-4C44-BA98-33EDB4FF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DA62-D461-41C2-838D-2705B408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258F-7ECF-4251-9EAA-0C5B2A07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E7F0-7B11-4D5A-9029-8AD2C2FA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985F-E83A-413B-B563-46BA5CE0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B891-C945-42B5-B853-CF2F5F19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1A68-4423-4898-99DE-72EF0F86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9F90-D27C-4409-85DA-8A813B80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14F3-93B2-4882-887F-5E830C36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02219-C299-4399-AD99-EC0F1D025D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