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5959"/>
        <c:axId val="32547517"/>
      </c:barChart>
      <c:catAx>
        <c:axId val="2205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47517"/>
        <c:crosses val="autoZero"/>
        <c:auto val="1"/>
        <c:lblAlgn val="ctr"/>
        <c:lblOffset val="100"/>
        <c:noMultiLvlLbl val="0"/>
      </c:catAx>
      <c:valAx>
        <c:axId val="32547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5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9E6-7C68-4E23-893B-B6E4A49E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686-AC45-44A7-872E-0996079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E9E-3AEC-442C-9A67-3D697912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787-AE9C-4CC8-B1E1-D8E7E233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38C-795D-4616-A314-FF72DC0F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B4B-069D-48E4-BFFA-4C3D558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84A-FD47-4549-94AD-E1BFD63F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BD8-61DC-4FCB-B9F6-F97257B4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C8A-CC53-4687-AD7E-5F20FC6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F33-E205-450A-BF1A-757386E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7E7-1B2C-427D-91B4-73FE02F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116-654E-425A-B240-264AC13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286FD-B04B-45F5-8FB4-8BA449FA2C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