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044774"/>
        <c:axId val="72271291"/>
      </c:barChart>
      <c:catAx>
        <c:axId val="620447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71291"/>
        <c:crosses val="autoZero"/>
        <c:auto val="1"/>
        <c:lblAlgn val="ctr"/>
        <c:lblOffset val="100"/>
        <c:noMultiLvlLbl val="0"/>
      </c:catAx>
      <c:valAx>
        <c:axId val="72271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447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ADA-A2BC-4625-B117-AA79E0B3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7BE7-5E16-4057-95D9-8B3CD512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11C3-8737-420C-9F21-43398462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F559-7454-4008-89C7-88582905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B51-57F9-4DEE-B654-85526EB9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E220-803D-41EE-B16D-0622DA1C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C85-6312-4702-B61C-32F5E6A0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979-659E-4C15-9B84-000C9059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A09-1D6F-4009-B476-7FDFAC08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A3B-C310-4E45-BAA8-C507A842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1DF-691E-43C5-8DEB-8105B117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3041-AE59-42A1-A681-89DD78F6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0AE1D-869A-4604-B157-D85E35F3D1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