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576301"/>
        <c:axId val="40650665"/>
      </c:barChart>
      <c:catAx>
        <c:axId val="625763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650665"/>
        <c:crosses val="autoZero"/>
        <c:auto val="1"/>
        <c:lblAlgn val="ctr"/>
        <c:lblOffset val="100"/>
        <c:noMultiLvlLbl val="0"/>
      </c:catAx>
      <c:valAx>
        <c:axId val="406506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5763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38DA-2297-4474-A434-377F31F5B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7AAE-3EFB-48F0-A981-18DB849A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77E3-C41B-4517-A645-C6122BDB8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9314-8215-43DC-BCAF-52CED37EF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CB3F-4053-43DE-AB53-4399C242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8D93-B085-437B-B4DB-A92989CF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A83D-4019-438F-B05C-9CA68A86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B814-90A7-4F01-83D5-6AB2B5C3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2011-8AC2-459C-8EF3-0E3EEA44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B676-8365-4FC4-8489-4F5850B6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4BB9-70AF-40A4-BD21-278DC0CB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F79B-13FF-451B-A4A3-C0B5F16A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3C1532-B253-4EE8-9A2B-9A1C26DD5E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