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68953"/>
        <c:axId val="74069133"/>
      </c:barChart>
      <c:catAx>
        <c:axId val="58968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9133"/>
        <c:crosses val="autoZero"/>
        <c:auto val="1"/>
        <c:lblAlgn val="ctr"/>
        <c:lblOffset val="100"/>
        <c:noMultiLvlLbl val="0"/>
      </c:catAx>
      <c:valAx>
        <c:axId val="74069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8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EC1-A780-4BA2-A66A-6B61C180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93E-6B05-4B5E-B73B-E789FE0A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2F2-820E-48F1-BCDF-0BEF2E04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305-AD07-400D-ADD8-4A905A78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BCB-6B5D-4C76-8EB2-841CCE7F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874-0FCD-4C4E-AB02-6D5EF80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9DA-4B0F-466D-BBFB-71A85B1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C66-D6F6-4157-9D1F-26ECDAFB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E50-4638-4D08-9722-66EA4A95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B4A-E517-4149-84D2-773E96E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490-85D6-40EA-B072-5460587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EB9-FFD5-492A-930C-25F4E9A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F37C4-D38C-4578-A540-DE8FBF895F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