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82722"/>
        <c:axId val="84705507"/>
      </c:barChart>
      <c:catAx>
        <c:axId val="41082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5507"/>
        <c:crosses val="autoZero"/>
        <c:auto val="1"/>
        <c:lblAlgn val="ctr"/>
        <c:lblOffset val="100"/>
        <c:noMultiLvlLbl val="0"/>
      </c:catAx>
      <c:valAx>
        <c:axId val="84705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2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184-20B9-4814-A1BE-E385586B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CC6-1C41-43CE-A0E5-12BD0978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564-6093-4DD1-A048-2784B62A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85D-F7A3-4DDB-AE97-E411DE2B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BD4-BC04-49EA-A08E-D2E90F1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D7F-A68D-4BE9-A1F0-3F30C50B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330-B39B-454A-894C-76A10E90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BED-387B-4469-BA93-A946A6A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5C9-BA7D-403A-BA9F-72E9EACF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012-E84C-45CA-B474-7AB368B0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F95-9D07-4FA3-BFBC-3E7C523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EC5-C8F8-41E2-819E-11757CC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B5C3-996C-45D6-9560-92977C737E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