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64731"/>
        <c:axId val="2715269"/>
      </c:barChart>
      <c:catAx>
        <c:axId val="40064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5269"/>
        <c:crosses val="autoZero"/>
        <c:auto val="1"/>
        <c:lblAlgn val="ctr"/>
        <c:lblOffset val="100"/>
        <c:noMultiLvlLbl val="0"/>
      </c:catAx>
      <c:valAx>
        <c:axId val="2715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64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F7A-066A-44A8-B6DF-652A1FE2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0B4-CCC5-4BB6-BD67-C9E4F0E9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D15-E4CD-4FED-9983-4192089C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6C3-CAB8-48B4-9B58-7C20DFEB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477-E120-4BC7-958D-05487354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E91-2F07-4CD8-B8E0-7B30288E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18C-EB28-4D01-86AE-45CD047C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7B9-6CB6-4A8B-834F-BD793C24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0B7-985F-4578-8584-3307C1FA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895-D7E7-43B2-B7FE-162E64E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118-8474-4149-952B-94D7E459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DBC-3DEC-4E99-BE5D-D69DF53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70D7B-3A1C-415F-A804-E5D4ACE899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