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3089"/>
        <c:axId val="72818772"/>
      </c:barChart>
      <c:catAx>
        <c:axId val="52763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8772"/>
        <c:crosses val="autoZero"/>
        <c:auto val="1"/>
        <c:lblAlgn val="ctr"/>
        <c:lblOffset val="100"/>
        <c:noMultiLvlLbl val="0"/>
      </c:catAx>
      <c:valAx>
        <c:axId val="72818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3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509-40EC-4613-9871-D01295A8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79A-37ED-4045-B7E2-9167EBF3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A9E-9A49-4A33-8E3C-C0143791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BDD-7DD5-48C4-9D4C-0CEFF5D3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D80-0F7F-4E4C-821B-0BE63CE2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BA6-6A8E-4E1D-A889-5792B6C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5EF-D226-4DA2-93A5-0D014331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32D-376A-4F69-9C54-737A712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9A0-37D1-4193-B98D-D515449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EE9-8808-4302-86DF-4E19957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C17-7BF1-4DA7-8BF5-943DBD8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66C-6284-44A2-B58E-31BBD94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15435-1B2A-4F92-8B00-B08208B46D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