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11768"/>
        <c:axId val="55501330"/>
      </c:barChart>
      <c:catAx>
        <c:axId val="24511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01330"/>
        <c:crosses val="autoZero"/>
        <c:auto val="1"/>
        <c:lblAlgn val="ctr"/>
        <c:lblOffset val="100"/>
        <c:noMultiLvlLbl val="0"/>
      </c:catAx>
      <c:valAx>
        <c:axId val="55501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11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3E7-C6BC-46F4-8166-BA887A3B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347-31D2-40EB-816F-62FAF6D6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464-5963-45C3-BC63-F604EA6D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065-F771-49C7-80EA-B850901B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9C8-BD9F-4AC6-A816-C861233C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C84-86E7-44C3-A5BE-77AB2E18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07C-044B-47AF-8765-5395E11F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103-D86E-41B5-895C-7158CBEB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907-8DE2-411F-950B-32C2C9BB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92E-D0F5-4B62-A15B-1848DA36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57F-FCC9-402C-B322-2B6BCA31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F7F-2948-4389-AAA9-C8BB611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0EF89-2D40-4899-B128-6E831D10F0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