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84300"/>
        <c:axId val="31581373"/>
      </c:barChart>
      <c:catAx>
        <c:axId val="44384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81373"/>
        <c:crosses val="autoZero"/>
        <c:auto val="1"/>
        <c:lblAlgn val="ctr"/>
        <c:lblOffset val="100"/>
        <c:noMultiLvlLbl val="0"/>
      </c:catAx>
      <c:valAx>
        <c:axId val="31581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84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023-C82F-4E73-94DB-B6593762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939-DDCD-4496-B1E2-9DC1A0B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25D-FF2E-4BF8-8C03-7FC293E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E72-D08C-4CBE-80AB-0182458B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942-A58A-4C6C-B9F8-468F6352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FA6-8EC6-481F-9473-295D02B4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306-4296-4D05-A87B-8C0FDFC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EE4-B2E3-4CB1-A9E0-D5379708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C4F-C454-48E8-B7D2-A02BF035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8B4-2B3B-4DD0-9C92-52FC942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586-0BCF-4924-88AA-C959D6F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BBE-B60A-430A-81A3-83DA4469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FBDEB-5B61-47E5-A02A-C81C9FE7A8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