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33234"/>
        <c:axId val="49285892"/>
      </c:barChart>
      <c:catAx>
        <c:axId val="68433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85892"/>
        <c:crosses val="autoZero"/>
        <c:auto val="1"/>
        <c:lblAlgn val="ctr"/>
        <c:lblOffset val="100"/>
        <c:noMultiLvlLbl val="0"/>
      </c:catAx>
      <c:valAx>
        <c:axId val="49285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33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F9E5-384B-4794-B603-3E66FDA6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A0C-0019-451F-9DD2-4E1E4CC3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19F-F8E4-4CA4-95D3-7B14367F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11D-4BE1-4F6A-95CA-2952BB7F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700-062C-4966-BBEA-8A41EB49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1E3-1ED4-470F-A426-D7ACF9A8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049-6C57-40F1-B15C-8258516C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019-024C-4388-9932-1166A7BB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7E87-76BB-4C21-88AC-0D603E6E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EEE2-308E-499A-97DE-63BC31DE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81F-24F8-47D2-9B87-62733AC5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6C5-BA76-415E-A317-BF1A3BCB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9FDA8-84A7-452B-88AB-89E175E73B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