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41471"/>
        <c:axId val="28864534"/>
      </c:barChart>
      <c:catAx>
        <c:axId val="699414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64534"/>
        <c:crosses val="autoZero"/>
        <c:auto val="1"/>
        <c:lblAlgn val="ctr"/>
        <c:lblOffset val="100"/>
        <c:noMultiLvlLbl val="0"/>
      </c:catAx>
      <c:valAx>
        <c:axId val="28864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14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DD6B-D5A8-4DAC-BE59-B54210E4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1815-5C0B-4FBC-A188-DC596DC6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2A4-6D85-439B-B0EA-0A990B03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678-9796-4B26-9615-265A6E1F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E520-B18A-4FFA-A0A2-32AEA5A2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729-8C17-4B5C-A029-A0CFE94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D7F-3FA0-40A0-90B6-19898C33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366-DF4E-4ABE-854C-477D52F2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57A-B4EC-4614-A237-7A78D980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5CD-E820-4616-A438-ACAEF8A9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A78-00D4-41AF-91F0-5771EB8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8D63-D2AB-4C07-BF8C-C9F2B9B8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91332-2BE3-40B3-ADC4-C931B8D2FA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