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44828"/>
        <c:axId val="26125875"/>
      </c:barChart>
      <c:catAx>
        <c:axId val="2804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25875"/>
        <c:crosses val="autoZero"/>
        <c:auto val="1"/>
        <c:lblAlgn val="ctr"/>
        <c:lblOffset val="100"/>
        <c:noMultiLvlLbl val="0"/>
      </c:catAx>
      <c:valAx>
        <c:axId val="2612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73-B35D-4617-8929-4436B2E6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7A5-ACA6-454C-8D8F-A2AE0C0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905-EF6A-4554-B2A5-5C795CC7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618-93AD-4B63-99EF-846BD80C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9FB-EC0D-421D-84D8-C896319B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9F7-C55F-4622-8330-2A34969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B8A-38E8-4128-9B00-2D98A91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322-BB1E-4C30-8A2C-C9787B5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EF9-73C5-42C1-A256-B18E6EE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499-87CA-487D-BA43-03D0B3D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5B7-4543-47EF-BC78-54C19AE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CD7-F5C1-4791-A3B1-7DB4CD1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73FAD-3D3D-401B-AF8C-56E55CB311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