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44848"/>
        <c:axId val="81824388"/>
      </c:barChart>
      <c:catAx>
        <c:axId val="92244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24388"/>
        <c:crosses val="autoZero"/>
        <c:auto val="1"/>
        <c:lblAlgn val="ctr"/>
        <c:lblOffset val="100"/>
        <c:noMultiLvlLbl val="0"/>
      </c:catAx>
      <c:valAx>
        <c:axId val="81824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44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1B1-2A07-4D4B-B82A-B370E665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478-7181-4EF9-BABB-03828C8D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5EF-F85D-4F48-A73D-9326086D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D11-249C-4F03-9729-24F74CB4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0EB-E2EC-4308-B4E8-C1D185A1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138-C36E-4A2F-89EF-254037DF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B0A-76BF-42D9-A847-9F7B003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D50-7C39-48BD-ADE7-73746769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CBB-EBA1-4753-802C-3B9105D4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178-38B4-42F8-B3D7-153D08E8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BAB-7FC6-493F-913B-3A2B1FBD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7AA-9E0A-4F39-A648-2C5B5C78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7D18E-0015-42D8-8B2B-BC45EE5FE9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