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32316"/>
        <c:axId val="26443719"/>
      </c:barChart>
      <c:catAx>
        <c:axId val="16632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43719"/>
        <c:crosses val="autoZero"/>
        <c:auto val="1"/>
        <c:lblAlgn val="ctr"/>
        <c:lblOffset val="100"/>
        <c:noMultiLvlLbl val="0"/>
      </c:catAx>
      <c:valAx>
        <c:axId val="26443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32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566-34FD-4D9D-A963-966F4531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E36-CA12-4827-B752-CE3C66F5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80A-3E05-4300-9B0F-6BC39A9A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876-F303-4CED-BED2-EADA0E53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148-C9C4-44F5-9DE8-906DF26E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3A4-A095-4F4F-8ED2-F85E259A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D01-0A35-413C-B695-1AC5F1FF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F9F-8543-415C-9F1A-3A71BD56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7BF-E3E0-4967-9C4A-CC6B5608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854-20EA-4003-B27E-A3C6BFB0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985-C75B-4A21-A8B4-77523A45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57C-B91D-44FC-B399-4E9DF67F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63944-C16B-43AF-ADAA-2F92D4ABBC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