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447016"/>
        <c:axId val="13502512"/>
      </c:barChart>
      <c:catAx>
        <c:axId val="414470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502512"/>
        <c:crosses val="autoZero"/>
        <c:auto val="1"/>
        <c:lblAlgn val="ctr"/>
        <c:lblOffset val="100"/>
        <c:noMultiLvlLbl val="0"/>
      </c:catAx>
      <c:valAx>
        <c:axId val="135025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470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314B-D955-4DB2-B35B-D29B5BD3B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5582-E4A6-4E30-B69C-A94FC0FC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946D-B352-45D2-BCAA-361BC119E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D5D9-E17A-4C3A-95AB-154A704AA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162F-E295-4B4B-834E-8EA97DA7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D639-A333-442D-88E4-44A3C4980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93B7-7E34-4152-AF02-737ADC81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9801-2DFC-4DBC-BC1B-F76E5DF1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F9ED-B5C8-4B74-844A-F81976962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2142-AB14-4EFD-AA84-15D35FE1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14AA-EED4-47A9-A938-5550D71B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4744-CF46-4DAA-AED7-773D6B5B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74B7B-34F3-4CD8-ABDF-79924CC9D9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