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35FC85-82E1-4EC8-A354-97BD8A9837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17F5DB-DB95-4C1A-963B-A98CD01854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0939AE-846D-4BA0-AC07-5186D81B5D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5A8545-5022-4389-82C0-CF1410F957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3B4648-9004-49E0-9D09-7ADC7F08FC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240B66-CEB2-4F80-A52D-ADE5CB9793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D6DF6C-CC9D-477D-8FE4-90A81234E6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CF67A9-0CB1-42C7-8033-71A8EA324E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CB35F1-6D95-407D-BFE5-1A2B7FDBE3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72292C-32B2-496B-9A8B-1515021528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916AB3-C381-483A-84E2-BC44C05F0C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6EB454-7554-4B4D-BDFE-654DEE49C4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AD9F75-8D9C-4E02-93E9-E890FA5CD1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A29FFC-AC30-474C-BFEB-5E17EB531D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AAC1F7-DBEC-4227-9491-1854F940FE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11FF84-5ECC-4D2F-B71A-86396EBACF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4F9C03-B951-4471-8142-8642E12C28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6A0149-63E5-447E-ACD2-BDE51184F3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C93E30-4F23-4BF2-A7B8-721CB5E754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900BCA-E7EC-43AD-8E57-54F45CC0D8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474724-F721-4BD7-AC1E-4933BE110F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370FA0-2BD6-4A02-BD53-76F252866D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3F83CE-6A26-4991-8BC5-A4F3B84981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B18487-5DF8-4734-BBA5-5219F71252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9C921-FE58-4D07-AB48-354B6DD9E9F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25341-456F-4DE7-B807-AC887523BAA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BBE40F0-5905-4CC5-B853-84296587E5B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ED39903-DCDF-4199-AA10-54C8D27503C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F41C3B-51DA-4F0D-9990-A0029F24302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844FE0-1CF9-4900-B3EB-E019E31D4B0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CF6FB9-4A25-493E-894D-14C0996061D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AF83E2-0C1B-487D-A853-D7E520AA20A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FE624B-11F2-4EE6-BD84-4ED29E038D1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3BB497-7C55-4CE0-9F45-9A55BB325609}"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D3DA0D-C9C5-494E-AACD-63B7785AFD00}"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30B788-7FC9-4D69-9703-B7901AAFEAB6}"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21DD3D-951D-4A43-86C8-12B5C52CD5EF}"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D23E5A-A859-4B20-AF01-9494BA636200}"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29F87E-1201-4037-8C65-80BED3F87A67}"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AF8F4E-6594-4114-913B-59CA58F13C70}"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56A247-F951-48D6-8B2D-D14935F4833B}"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6B2B80-A197-4BC0-A9BB-4601E41B640D}"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C960B4-B59F-40DA-9892-159864B087C3}"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0FDF5B-9960-45C7-8446-46A027A3B77C}"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B342A2-1CE7-4228-952D-2CD52EBAF990}"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5D3445-0D29-4ECE-86A1-73A97C824634}"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916C70-35C8-4614-8A8C-BD5263A032B5}"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30F50D-3B67-435A-AC76-4DD15E4DE069}"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A9388E-36AA-4A75-B9CF-5BD305B803EE}"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8BA76C-A204-4AA4-8F35-9D2D08D9D8B3}"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31AFD9-2EE3-49BE-A83D-E14B70779BFC}"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7AD822-FE6C-4C14-9884-AC0BC3E187A3}"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C4DD86-F17A-4435-8A5C-4E8FB994B47B}"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9D989E4-5E26-43D3-AD77-BBC7EA6E0DAF}"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8FD934-6FBA-41EC-B7C3-60885C4F9850}"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FA40BB-6944-459B-A0DF-5AD368260912}"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8863BE-22F6-40D7-90D0-200C3F040656}"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9B1A4B-1F7C-45AA-BB0D-A358D916ED27}"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24EF8C-58A4-46CF-AB5F-CC11989A8735}"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A3DD36-ED87-433F-9559-4347E4BA29CC}"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7533D3-8E27-4853-AD3B-B89A44717645}"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1932EC-2545-45FD-90FC-2F8058C5BA7D}"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7B20CF-231C-4C07-8945-C513BCFF4D36}"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3C0441-D223-4F1A-B16A-F96061820824}"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CA5B18-3392-4ABA-828D-B319A752D3B1}"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CE8507-103A-436D-B6CC-E25A4691E620}"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C2F987-BB40-4021-8F81-8E28CAE13773}"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46E00D-35E7-4873-A57B-460CE21F470A}"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25E1CD-8B60-4AD7-ABD0-17D402A6E85C}"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DD04E6-64B4-4520-B2D6-3F5CAA964A27}"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1CAE50-10C2-436C-A170-27B68C909AA6}"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BD64C9-F111-4898-BBBF-3ACBDA03B7E1}"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E5CF76-7C56-440A-81F8-D33A85371E61}"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A53F8C-0724-4DCA-9072-7D94EA81BED5}"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03A351C-7CFF-41B8-85F3-88295A2ECF10}"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E1A277-EC08-4A00-8495-4FA2CBD71047}"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24C45D-0F35-4C3A-9DD3-1A3C414B5DB1}"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7A36CF7-DC86-4DA5-9298-CA576F829323}"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C11087-C417-41A2-A29A-4DA47EB707A0}"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965D3E-7556-41A9-9F5E-E219EABD1DF7}"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A3DCA3-2186-4610-8287-7F8191DA2E53}"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88BCE6-EDFF-4716-BB78-77A93D30B21B}"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006FBF-30C0-4570-B8A7-E26A187E7570}"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1CC914-1E51-4A51-A97F-7CD38ADFA5FD}"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2FC4E1-7E1F-4D37-96F3-20E9B9A1D50E}"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5EFEE9D-38D6-419F-8FA7-F1F19F843C28}"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B79F58-86CA-4522-8910-0A93FEFE9820}"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965416-9666-41AC-91FF-18BF38A6E7A9}"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B73ACD-0E9E-417A-867E-83FEB9F0E244}"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92C7F9-2F22-4A14-93B0-FEDA8B8FA312}"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9D7953-C15D-4E7C-8C5B-20D2A6E5E977}"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BF4F870-34E4-42AE-BB81-E5F3A1AF418E}"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0F1B37-4402-4475-B211-ACBD7A8BAB1B}"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637882-AE0E-412D-AE28-A0A311A12047}"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AE960D-4CB1-4A4C-AFB6-B54B6E6DB69C}"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71757D-EA41-4CE7-A310-4992480640E7}"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A5544C8-15D9-482B-BD3B-D895DAA9068E}"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AF3550-075D-4AB8-81D1-8C0480233755}"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D45EEE-29A1-47BF-94DD-CDCE184E308B}"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C72BF2-9DE5-4329-816F-F52C2272BA30}"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2F95B8-AA6E-4BA7-83A5-05F41D27D8BD}"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3D32D8-6E0A-4C85-BC46-B4F8E1811780}"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5EEB06-BAB3-4A0B-92E8-E10F64664450}"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524E1D9-CF21-41FB-B4B6-9870F9268A55}"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5ABA4C-1059-4B3F-89AB-48EBAD1A6666}"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D5C4F7-C2B9-4101-AFB9-2B842EF483D5}"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3C723D-A15D-4EA2-85E4-9FB490FFFEFC}"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4CC334D-265F-465E-93F3-FD975B1F36A8}"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C8A42A-B203-48B0-90B0-1E09BF1B3EC6}"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611845A-33E1-46BD-B400-A33D98A01DA5}"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F6C276-F6C3-4943-9EAC-2EE1FDF05954}"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FFFDBE-0832-43BC-8051-B774148ADA9E}"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9BD684-C0FD-4B64-85FE-776C134E4215}"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81C4C9-0A68-4055-AD9C-3530A3996682}"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B17E99-8FA2-4F10-AFE0-8C05E2FC438A}"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156F15-5528-4BA1-BD29-716654C4A8AB}"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AB36B7-B903-4548-9FAC-B86F3B46902D}"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5E2E62-960F-4496-BF3F-A2540486DDBD}"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80D0B7-AB3B-4C80-84E6-23FD0E9FD726}"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8295C0-06E5-4719-9B01-81B2DA184D33}"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FD9DE5-EC97-42E2-B008-45AD7B1C74E0}"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A6D646-7A27-4F73-B86D-F16C844D39DC}"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4522A4-BE44-415C-8D99-87126D4CBFA8}"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C775B8-CC79-4EC1-8D80-57CF4E76A84E}"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55D9C4-2C46-4554-B7EF-B1A415BC8F2C}"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5AEC362-889D-405E-AA01-543E02202400}"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E93A3F-5081-438A-8F7E-F0ECE1578F61}"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A22115-3B04-454C-BF3F-434A0217AC2F}"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3B887C-86EA-412D-B6C6-049C32089FA4}"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1C865B-3805-47C1-8ECB-62C455AF828E}"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469428-9B0D-43DC-AB27-9959803D86DB}"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422FBA-19D3-45C3-9581-5F9F5C4E6705}"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3DD487-532F-4C42-9C15-0390B47A9474}"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F8CFF3-9065-4E33-AB09-6ED324A5B3C8}"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13E06A-368B-411A-8644-D7CAC11D016C}"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80A929-E994-4E07-A65C-9A8448CDCA46}"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10E2A2-4B0A-4221-9B35-C4BBC1A4FF35}"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50E2ED-5D5C-4A94-9DC7-F2069166044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4D5245-E5BB-4913-9827-69CC5A4B6762}"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6709C9-E52D-458D-B8DE-402D7A49BB58}"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7A2169-D597-4106-A1B3-1E15C00745D1}"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32C596-8E16-41CA-8FB5-56CFC70480EA}"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515BD1-D991-4C4C-A02D-46D37CE11902}"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3C509F-0F6A-4AC8-997F-750D130A16C3}"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BB1BB9-F578-44F3-B566-2E45DD936D3D}"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E4D26A-517B-4706-9473-E7C87B1489BF}"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6D8DC7-6E4F-47F1-8D9C-40C830BD3CA9}"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6CDE45-47F3-4CAD-A51E-E9351F987B4D}"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AFF496-880D-4615-8256-D63C040092FA}"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DCE457-BD89-4168-A34F-DF5A360CEBF1}"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F94626-86D8-481E-A5A0-E0D805E56246}"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EF275A-88CC-49B9-9180-2A7B0020A386}"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D59832-DD2F-4A6C-B195-D1B29F910B1A}"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D7307C1-39AC-4897-B051-D5B8DA27861B}"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0B02BC-8484-450D-A5A2-7377F6425BA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48F7F2-B553-49C3-A395-ADF5F7D0A28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C2392C-1513-4AF4-9E02-C25BC7CBE0B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B7ED48-017C-403F-BF41-13A5DE69086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D01E89-018C-414B-97BA-A0BFF36F321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23732D-7041-442E-BD7B-F475060F0B1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34C7677-BD39-4A19-8B6D-110AFC586D5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B075BA-C2E3-45DF-8C16-D38854BE88A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3C905F-386C-4551-8F44-7141700E064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75122C-3606-4FDA-B834-5FDC6C9F22D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B47882-298C-4A18-9B37-C8A998A00AD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2F4B5B-7ABB-4368-A84C-9F9CB53057E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2D024C-FEEC-4449-81F6-578CCC31DB9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BD58AA-87B7-49D0-AEBE-781FA9D3582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D8416B-5F17-408C-B0D7-7179E963519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1F028D-FCC7-43A8-B156-08D6171D603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47CA1A-4D02-45F1-8A3E-C038B9AFCAD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9F95B3-C1E7-43E6-9E3D-0CA227A19A3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72E2CB-5392-4D00-A8BA-2F043207A73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48B7A1-8DF9-4097-A107-A6D25469FA7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A0845E-0340-4717-BD1C-4F93561F8B3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33E0D6-9C5F-47BA-915E-E935A828948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3EF807-8971-4F12-B05F-2B042C6EB4D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CDB2E5-B5B3-4F9B-B7A7-BA176E0D0A7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A56FB7-41FE-404C-8931-5D707FED8C4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79F44A-1D91-4D62-A42E-F1E7ECD0F39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B9209F-2C7C-465E-9AB3-98DBC4A2B20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E96F6B-B928-4F09-B4C9-717B9683D4B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C0D244-EFDC-42C8-9AEA-B5EF8EF3541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32C092-7A48-421E-A2EA-8BC12609018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2D98A7-B404-4FBC-953B-26EEC10754B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F6EEC1-F251-4D1A-B544-6665456642C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E34AAF-907E-462D-BA37-EB9DCB9B893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A00F8B-2F4F-4062-82D6-C77E2F32AA7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C3B42D-6B6A-4B5A-AF37-0814E221879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D93B05-3CCF-4818-A48D-4295D35D0A0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3CE5A0-BA59-4E6E-AF4E-FAE5CD61394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DFA82A-8DF7-49BF-9900-6FFE6DDABE4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587870-DEF5-41F9-90EB-B117FA72DAF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B27EA5-DAE4-402E-B182-0A6A809371A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928BDA-ADDD-4E4D-A233-CD8415CBC2E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B52546-C0F2-4AA1-8600-0D7837A9A59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FA9BBA-15C2-498E-BD1F-90C8CCD7D9A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853418-E38A-4F3E-9CBA-B257288CFDB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3BF559-A2DB-4B54-BC24-12F1999A2D1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65610F-5253-4261-9EEC-116877CBB18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6FD0E6-F8BD-41D5-BCC3-5B453F969D9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3BA35CB-1182-41C1-A389-4CF642A2138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220716-BBAA-4907-9F83-2ED455A6B03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1C73F7-D7A6-4A48-800A-EFD7FAE187A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F7E007-0A62-41EF-A44F-E95E0B681E4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D6AAEC-624C-4120-B2B5-8FCF3AD0818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C8DED7-A192-4407-B68E-FB35B668B9A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7D1F55-CB5D-414D-B5F3-34AD2CE198B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2624B5-6FF2-408C-99B7-C15E6E81B8C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187132-CEE4-4AB2-99D6-A5E6D126E2E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9D9DF7E-DD89-47B1-B5A7-B7234AFA321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0D2969-FA9B-4837-A462-ED417DE226F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70F268-046A-484B-97AB-F74C9030F3F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3C372C-37F7-4CE2-AD7E-F774FDC62C4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6663C7-C5B6-429B-8C29-29C2E50819D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09ABD3-D1AA-42F1-A9F8-FC10985D4F2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F4BC4B-9AAD-4B99-BF56-D9549F261EE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8A541A-E7DF-4707-A645-8DB674E9EE7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6AD12E-9119-4252-9FB9-B0725CEBFAC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4C8B45-698B-48D3-BF63-F6A4D6E6D7D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078A60-C90A-4200-AC2E-C22056E4FB9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A39292-E1A9-4538-9370-D3645F7139D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DD9486-8ED7-4963-8579-F03E46194E7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02A45B-79BB-43A0-8176-8977CF82536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247457-9007-4D31-ADFF-8D5647AB858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EF80EC5-A786-44A8-A303-333E0612472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15F297-5300-469E-87B6-8B24E1FCF14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A7A5FD-471E-49F6-93A0-E6E61F73471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DA8702-54A7-4E46-8EBA-A3EE14D746F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20801D-EBD6-4136-8F51-03392FD327A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22B3D5-75CF-4B19-98E9-5C41000635A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79D36B-F3D5-4719-BEB9-44E5FF57E4C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A37A92-8A00-4320-B78C-87D4C938114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B5B6C2-E5ED-4B37-A8A9-26637448E0A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B602F5-95B8-41B6-8CCB-F0E461459D7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E082E0-DD2A-4273-8A73-28290DB7DB9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B74DA0-8F98-4649-90BB-7B7DBCA35FF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ADB320-2A35-4AE8-9CDC-42602469798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02F61F-F3EA-4221-B196-09E7D0C02E6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