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519121"/>
        <c:axId val="18624536"/>
      </c:barChart>
      <c:catAx>
        <c:axId val="695191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624536"/>
        <c:crosses val="autoZero"/>
        <c:auto val="1"/>
        <c:lblAlgn val="ctr"/>
        <c:lblOffset val="100"/>
        <c:noMultiLvlLbl val="0"/>
      </c:catAx>
      <c:valAx>
        <c:axId val="186245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5191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B5AC-20B3-409A-8D14-BE4F23638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89F9-7E09-481F-BDE3-770825405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B9B1-3707-4175-B64E-CC9538F91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2739-FF18-4689-8F94-746C45B76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EC8A-DE74-46D2-9732-0B85BCC90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71DD-08B8-48BE-ABEA-18A46483B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AD94-F451-40E6-81FF-8C52D602F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CD6F-F897-4588-8395-F765D0016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06BD-1CEB-49EE-A7F2-4DFB53416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A79D-1702-45ED-87D5-346535A7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D792-9503-499E-9263-D4752932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790B-95FF-4CFA-B770-934915C5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A251C9-CE43-4997-A27D-F46EBC4443B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