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91279"/>
        <c:axId val="76400865"/>
      </c:barChart>
      <c:catAx>
        <c:axId val="98891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00865"/>
        <c:crosses val="autoZero"/>
        <c:auto val="1"/>
        <c:lblAlgn val="ctr"/>
        <c:lblOffset val="100"/>
        <c:noMultiLvlLbl val="0"/>
      </c:catAx>
      <c:valAx>
        <c:axId val="76400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91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016-0C50-4D0E-8B64-993206A2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028-FFCB-4CD1-B390-935FA2E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B70-A921-45D7-A193-A8ECD488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DB6-E4DE-41E2-88AD-484D1032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AE9-5682-4CFF-8829-BE8BCCF4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AB9-8F1E-43CF-B715-5255013A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637-D378-4CC8-A5E7-6DBFAEFF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12B-633B-45D9-BA27-55CD2C64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AC9-43D1-46D7-A04C-DBD97154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EB7-65CE-49AD-BED4-935B5EA3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909-6009-4F7C-A6C5-1C2A9AE9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687-F7E4-4054-9E5A-A03D5A13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006B5-3439-4BD1-8C30-07DF54CC4A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