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35195"/>
        <c:axId val="34773624"/>
      </c:barChart>
      <c:catAx>
        <c:axId val="79835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73624"/>
        <c:crosses val="autoZero"/>
        <c:auto val="1"/>
        <c:lblAlgn val="ctr"/>
        <c:lblOffset val="100"/>
        <c:noMultiLvlLbl val="0"/>
      </c:catAx>
      <c:valAx>
        <c:axId val="34773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35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CDA-4A6F-422F-9DE8-B24079E4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A71-132B-484F-AD8E-D1F37538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511-70EC-4096-8404-47C54D8D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8BA-24B5-48D8-9A2D-0FD5FC0D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11F-FDC5-437E-8EC0-CCAE828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E96-00A5-4E27-A8A1-CEA4B5E5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426-2572-455B-9C68-09B819EF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C29-BAFB-4B0A-B8FF-9E6DEDA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51D-61DA-435E-920C-4D8DF00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C8B-7A44-4C47-8A3C-CD41982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6AE-AAF4-4437-9876-155E406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023-54B4-497B-BE7D-45BF749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EF4BB-421A-41AC-BF88-93C5093A86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